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006-8C9A-4821-A0D1-2EC784CF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E6C-71D7-4143-8CA3-2ACDD944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D1DBB-69D3-4DA9-B06F-0F4F4861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F9845-AD64-4FD4-B316-1C6148B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65C6A-7D6C-40E2-B399-8691190F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EF62A-890A-4B4B-8646-3F3B0D3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E00A8-B231-46E6-B850-6E36A8B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5DAF0-7462-49D3-BED6-A810C4C3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A24AE-FB57-4F5F-BBC5-7790B031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E70C3-5970-4A38-A8D0-FC1F0E79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8EAA0-9240-4DA1-B277-3274546B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3E8DE-DB2C-48A6-A051-311470FE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1CF-7A8B-46F9-B3C8-676984C9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21C98-7243-48CA-B823-FCE569A9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482BE-5E39-4F45-B56A-ABBF0BCD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279F0-7C49-4325-9D71-1D5D2B9B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18EEA-E6AC-4FD9-B508-4487D6F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9ED2D-1165-477A-8C0C-344D562B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1E193-12F8-4C07-AE38-0F60DD7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FF5F1-B981-4DA5-AB61-3960444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663EF-2BE0-4135-8FD7-0C9B534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0BC60-10BC-4E70-AED2-EFAFCD29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EAB42-C736-4ADD-9B8B-8A88486D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590-1BC1-4373-AB82-D5F4DFB0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28AA3-8035-49D2-9183-30EBE4B9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D6C0A-8ED9-481D-8991-56797B83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A5F7-0A15-40DD-A389-601AF47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23ECA-21F6-44C1-9B3D-34B5A6C1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C7759-B004-41BF-AA33-002498F7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949DD-622C-4DA6-A4E4-44EFF382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96ED7-9B48-4126-8D0D-4C0D4417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42941-3064-4725-B5EE-6CAF849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C799A-0D4A-4E92-803E-FA458DA2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8B056-3CA1-4C2D-AFF7-35CB04DA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FE3-3311-4889-B58E-325D6A5D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A8EC-37E9-4146-ABA0-775DA936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3C7F0-C661-413A-96FE-EBCBBB22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2E7BC-D2BA-4144-BB37-D6B6EA5B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59C31-FC7E-4781-88EB-F6A642D8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D9EBE-FD6B-49F5-8BE1-A5EA98C3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55170-3D92-4FB2-8C48-F7B40AF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3B6FF-35CD-4D9D-A511-5125E67D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9D4A0-55C5-4D24-BAAB-6925236A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9191A-6678-45B9-A441-6831D89A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FC606-F36F-44D5-B1FF-6FB37C1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DED0-ECAD-41AE-8D0D-3F57B0F8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10B0D-C420-4245-9FEA-AA882FF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A912-43E8-4E65-986F-4AF39A35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A68F0-B82E-412E-B6AD-4D6D7366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917E6-4929-464A-8DFE-26BE2A69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A7A17-9BD4-49A1-B690-9523D038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66476-E4B6-42E3-80E7-5161BAFC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A23BB-5DED-409D-B4E0-1240A7D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A2407-29D6-47CD-A290-65B40C41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3ED54-7817-47F3-BFE9-8BB20D08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739F7-3AE7-488F-A050-AAD62CF5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F9A7-ABE1-4A2A-8AAF-4C1CC1BD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44A99-C6C2-4E88-8D6A-98FE9C0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DAA0F-B387-4643-8B84-8E7B8681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1E9F8-BFED-4BCC-9847-79566EF5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7BC21-990A-4499-96FB-54145EC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7D1F9-DC6E-47D3-9286-BEA750D6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55C30-9617-4A79-9AD4-B5725B00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DA398-13AB-4B3E-B1DA-469EBE60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C71CB-62E4-42A3-84B2-0087357C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C888B-49ED-4C57-85E2-23658A7A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A18B4-E948-49FA-97FE-ED58A491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BFCF-DB84-4CF9-9ED3-D2AAD59C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59C0E7-A30C-487E-89A6-7D1F4284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15DE4-EA21-4DF0-A6A2-0DC962C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5AACF-404F-4C0C-B1A8-AD1F05BC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8B66C-3043-4E53-88E4-46B16CAC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A3A2A-9FB1-4D04-B3C8-AF0BBDDA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8E8E7-597B-49E4-BF65-9AF408A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876AF-0B93-4D48-8961-75214776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178DF-4C46-4C7A-B33B-CA57F3DC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88806-3F3E-46FA-9323-4E6ECF23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ABF8A-7794-4AEA-B012-72E51D19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E8EE-AC33-4C2D-943E-9D2DCFF1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8A6B5-4B9E-484B-84EE-3B2C854C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C0213-AAD4-48A5-9228-829492BF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69326-E4A1-47EA-BA43-E7BB1C94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7276A-79FA-4CF2-B5A0-04545B91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38D95-02F6-4DEC-A694-F3473F3C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F0326-A2D8-4BDA-A9D7-4091E6F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FA3EB-28FD-4CF6-A099-411EA24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EB658-F156-4D2D-9D29-FEC4816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04DEF0-DEF5-4297-A444-5F06FBED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49BA9-ADDD-4DCF-8078-3D3E93FC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02CE-6D7D-40F0-985D-CA104043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7386A-377E-4350-B579-F31969F9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832DB-786C-49FF-8A25-80B6391E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D580B-4664-4E6F-8C71-D88D985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ECCBB-3AF3-410D-A92A-B3B5E1B9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ED361-6692-4E9E-86AD-DCAF6671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1DCC2-44FC-4E81-90D9-4CD452D6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20ADD-AB8F-4A7A-902D-EE34E6B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588FA-0B0B-404B-BACF-B338E77E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198B0-13E8-4103-8024-9759BA74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A56A9-67FC-4810-A753-56892A75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3E0-3C9E-40D7-881C-33DD9405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BEEBB-ECC6-42CB-A11D-9D5508BC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74FB7-C896-4FB2-9448-53F6C939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A0C95-A422-4E45-9316-2B32DF9A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70A31-B535-461E-9CE2-A14C2CEE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A6385-7BE1-4F98-9996-09FE4613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50AF4-D8F1-42DF-A23C-6F841A11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C8309-D728-4EA0-8D8F-9B22FFC8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DE0A4-4646-4C6A-8422-6C018A41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70E99-3149-45AA-AC37-0BC5C371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CF743-6836-4AE0-B476-176A3BF5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283-1F0D-4AC3-AD71-54660E71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783B-DC11-4AE5-917A-C18CF68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B58CB-4D8A-4E10-B04F-3CA56284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CC0EE-5268-4C90-B334-54FD2A6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35480-4E1B-42CA-BF0C-B43E530B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EB42E-A8C9-431C-AD22-15C4EFFB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F58BA-384C-4798-885D-D239059D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1A5D1-DBF6-435E-A56C-D4A6F576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77E11-EC32-4F98-8212-AF78BA16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6638A3-98C2-4777-9E35-C8180CA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B7FFCF-F930-48E8-A39F-C20B3947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5A7CF-BD0E-47AE-A968-6A3EE76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0B52-0612-456D-991D-44984E0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C3845-AFFA-4DD7-858C-39E82FA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88B37-CE92-4B01-96AF-EC3BC74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83C96-ACC0-4131-9E0C-1937837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35993-BA48-4414-8402-7170DE4D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74B7F-107D-454D-B829-96DD7A5E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692E1-49D9-44F7-974C-A72CC1A2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6F48C-AB1F-48C8-B6D5-9BF1CCB3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F74303-5BBC-459B-B213-BDD659A0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6A7A6-4A45-40C5-B977-0634B6C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51876B-DDD1-403D-BA1C-6AF13048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DEC-D63D-44B7-AA65-F9FD095A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495F2-E7FE-4CE4-92E3-B80EFEB9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07D94-3859-492F-92A6-1C50B0D6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2ECC6-59A6-4D48-A5DA-EF4631B7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FC409A-6C08-4EBC-B3CE-7DBA81B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06D61-0C67-446B-8D5B-AA25F7E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3ADBD-9298-4664-9B5E-91DEB5A8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212C1-D38B-4115-8A0E-56BDB035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4D1BB-6B3E-44CB-A3E6-8C3A7E3E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29E86-9C59-47EC-AEAB-58F0B688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A068AF-EC1F-4750-9834-A7B6BF15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E47C-C164-4163-AEDC-561A734E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29E1A-C299-4B00-A6E3-9265D88A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BD54A-9E65-430C-A496-8CFF2CC7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4362C4-324A-4A91-9309-61FBA4C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F4742-1F38-4FDB-9C7E-74106971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D41E4-D1BE-4FE8-9BCD-540473C7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63C405-9166-4D07-B666-998F3FD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933128-07F6-43BC-B293-DB861A0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8DD42-DADC-4844-AFE8-DEED43B6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E4B474-0F46-41B2-8C86-1D858E23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B44DF-772A-4741-B2E1-954E9C2F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479-4998-4B26-9FB9-A695B34E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03BD1-E04B-4114-9F01-E3501693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E3BD1-8E11-4B46-9D94-AFE8543D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67A052-6E85-4265-907A-F559F47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A9272-36A1-4752-94CB-3D507897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1B2DC9-070C-4DF3-9081-A48BDFA5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F2FBA-DF7D-454F-947B-716C3D1C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49443-F8E0-431F-AA9D-0458681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60F53-B68D-4AA9-B7B4-C6C2F21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49B51-D6AB-4D2C-A0BB-9F219AB5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462A9-2198-4413-BA73-345DC18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16DF-2D24-4C61-BFC9-81179630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38510C-0178-4B3A-A3A8-0B5233D8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FA015-6B18-4FC9-ACFC-7BDD9D88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862959-E2B1-40D1-8CA7-FD3DADF7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A33194-0199-47BC-9EC5-BF63C771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706761-98EB-470F-AC23-022609CC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68D73E-D20D-4079-95F7-B9AA2368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BFB454-954D-445F-AD60-6088DA4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CBFD81-34CF-41B4-9938-31A3BED9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8AB2DC-74B1-4F83-97BF-7B273736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865754-F65C-47CF-8C66-6546675C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B099-C92C-4015-A1FF-0985AC80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505C71-AC55-4C5D-8005-E4D51978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0445B4-970F-4497-A941-0980B61C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98FB49-6F33-4C45-96BC-0078ADE5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007457-55EE-4005-B0B3-E713B590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18C9B9-EBBA-43B7-A51C-A5DC1C1D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EBE39E-567A-4B1D-92A7-EDD5F01D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C2CCC4-3789-464C-8532-0F9A5969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F0FFA5-DE14-46DB-B6EC-76EF5223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138B3E-46F8-4E8B-892B-44E2D730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A37B77-0FB9-44CC-AE50-106DC479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AA37-B457-491C-B5B4-2BEE2D32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3A5F28-B78D-4FE6-94CC-EC9DD7EE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32F401-B455-489B-A540-09A2054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376BC2-642F-443C-BDE3-DD874573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6C19FE-E259-45F9-94B3-6F9F4A7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A72C5-65DF-414D-977B-F038AC9C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F963D8-7E75-476F-B844-1E8609FB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8B66FA-7574-4016-B119-865691AB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14CD2A-AE37-44E7-A22D-1F6B19C5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702BA2-04A3-403D-BCD8-1A704DDC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CA1F58-0014-460A-B249-2386AAF2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6D07-8E35-427E-904D-F8CC9E7A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914B34-AA97-45FD-935E-2DE11B1E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017750-763A-43EC-9FA2-8134EE88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B84376-DDBA-48DE-A36D-6ED9ABB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DECC9A-2F81-4086-B0BF-75D143B2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773D68-2DBE-4398-8F75-1384FD5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4440E2-DD87-4ACE-A17C-C413C4F5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58C128-737D-4D8E-85EA-201D0A23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440DCD-6C03-4EF5-838D-45546275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2C8BEB-359B-4DF6-8A5A-3D63AA50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E96132-1DF2-4067-B53F-A43D7AED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F2B5-86CD-4081-A9C8-04BF2259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C9EB60-E15A-4849-8A9A-21B94AA6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D4D83A-C6FC-49A5-BEC1-E75F1A76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6EBF50-E4C7-420F-BAC9-FCB0A89A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29C7A9-269D-4806-9B29-6B690A3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1E0289-3122-427B-9312-4B9908D0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347071-1680-479A-9F1A-8DE9F85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329629-EEF7-4F35-B997-181CC47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961960-8557-4615-B6D0-4384F289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3C56FA-8029-4B81-86AB-C8E93128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4FDA9D-B716-4E13-BFE8-50CBF304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E89-2E63-49C8-8B70-F6883D17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95590-DB45-490A-BBD1-277F1F4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42300C-A80C-42A8-AC0B-2BA7B88B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47714A-8395-491B-B303-F60E3E55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AFB6E-B1F8-41C6-BFA1-4A6FA3F0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2B46B1-8422-44E9-AEC3-076969AE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EC2EA0-23FE-4941-85D7-B71545E3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3A3D98-2B7C-4B0F-83BE-5F1351A8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44FCB1-4ED1-44F6-A75C-6DAC6600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0990B9-18A2-40DB-9513-E529DFE9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6D3F76-BB01-4871-9CCF-0282B365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5D6D92-3CA0-4FD4-BBCF-F74EAF8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9816-C7E0-4FC9-A7BF-3D8B974D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3DCB3F-07AB-41F7-91E8-3CD8523D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91E991-BD79-468F-B3A8-53C69F55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3546E7-DAF8-42E4-B33F-7ABD36A3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92E130-8A94-41DF-BC2B-C3BA729D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008356-86BC-4A76-887B-9AE5A85B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728E9E-BC8D-41B6-91C5-C728EA96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749057-3BD6-422E-8D8B-A181CDC5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B9C878-1CA6-492D-BC32-4FEAA698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FE6ABC-00BF-4461-A88A-7057370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CD8C66-C820-4F4C-9D6D-DF627D74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12F9-A169-4046-BB2D-D7FE96C5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08533A-1011-4D04-9232-3CAC2A9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48FD1A-121B-40F3-9785-0A56392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B75703-5F16-4171-8D60-5098FFBA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30ABA5-C95D-4189-909F-E6B04BB6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44F4F0-90AD-4C1F-A9B8-333900D5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6A6758-B2C2-4C93-8FC3-C23AE488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0BCD5F-6C2D-40D6-A729-CE59D44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010960-A4B8-4275-B2BA-DFFA932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37F797-F3AF-4160-91CD-9465F92B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B9313E-F528-44AE-9EBA-84E8FAE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81C8-63E6-4F5D-9357-67AD80C9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0C8AEB-69D4-4C35-837D-0BF67DA5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593675-4DA1-4556-A61D-7E6A6AC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478720-4F08-48A1-8019-426EB8C9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A61286-8713-4CE5-A0FF-84EA17FD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9D0256-66AE-4B60-959E-E0CB5BD3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0371E1-B07E-4B92-AF6E-7B39433E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DAFBCF-0113-4912-B778-367F5ECC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ACB358-D88E-4D84-8535-00DD4B94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AA44AE-C487-4AC0-916E-501469E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BE1A27-D3A7-47F1-A4E2-83B41FE2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CA64-562E-463C-A0B1-50AFF72A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DCC98B-AE43-4C7E-8A8D-9291EC51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2808F4-E567-4FA4-A27B-EA5C6403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216889-4D86-48AD-B6B2-767CFB4C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9095C4-04E9-42E1-AC4B-4ADAF706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793B6F-B22E-4BE9-9245-1D0D336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9D7D4F-0435-4350-86A0-E25E26D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6A25EC-E680-41B1-B379-11D624F1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CFA95F-DB26-4DF5-9870-6FC0C687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1DF53D-D2F1-4A0D-8094-1C922319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C8847E-5135-4A39-B99D-4F408603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D6F5-A77E-4DDA-8EEC-742522B4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2964B9-555D-4FEE-AC5F-07593548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BD5F67-97FC-4D30-9C4C-40CCD4CC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9BE786-15C7-4B78-8E33-F69B6C03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A15546-25CE-4BEF-BD2D-AC6881D9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34BE3B-36A9-4DF3-8AB5-5C98D34A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C91164-0830-4A54-9559-F670D55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2CAEAB-318B-406D-BCCB-F81D1C3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733F00-B521-4116-865C-8A27152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14C9A5-C8D3-4E60-AC99-64393ABA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9ABB4E-1735-470A-9D71-891E0CD4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DE8F-6615-4CAC-8916-856083AE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AC79B2-A05E-4F92-898B-656B1B43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0E36EE-8B4C-4D5B-98C6-AAF7E617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BC0630-E3A8-4470-B7D4-0DCEC1AA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5B2A7B-EA64-47FF-938B-B4F4BE2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553000-E3C1-46D6-9BDA-A0AAD4B7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28D4C2-7A03-4957-A72C-CE1DCB45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667F2D-6085-4FF7-BD62-E4088263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724BB5-4A04-45CC-A119-075AD428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ABD268-9C8C-415F-98C3-973F2016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B094BA-FDFB-46DF-85F7-D68EED47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1B58-8F7F-4061-AE6D-7420968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268770-CFA5-4C6A-8932-9895304B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EFF35F-A684-46AD-AB5E-1F6389C6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FAE55D-B802-42DF-A3DE-A539D368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A981A-9111-4BCA-AE5C-48686969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A01A-A5AC-4132-99AB-9FA981EC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421-83EE-4C7F-94D4-9843997D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5C84-EA5F-4355-92E0-8617F565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50362-B02E-45A4-8992-69CA7F8C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C0D6-11B8-4AF5-85D0-94FC6DE2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E758-DFBB-4F06-A8EF-17022FE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BF3D-14F4-473A-945F-3EB1AA25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52DB-B260-41F3-812B-B45A6E1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979F-68B9-4AAA-B03D-0A5C63E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2AC62-A135-4526-B70B-5699EF59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1288-B740-45BD-B071-216FC2E1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95C09-6C18-480C-95DD-F5CD3F14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0ED-31BC-42FE-8240-9BF19F59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EA1EF-D697-4799-BDF2-69736913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CB3F-E695-4262-ADCB-C63912E4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3E0A-2615-463D-B2FC-1C2A529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65BE-557C-4021-AE30-65D07106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571F3-40B3-4459-93F0-B5574BA0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FF43F-AA96-4A52-87A9-5FE3357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3EF2-BF75-43CB-A88F-9AD650F5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89E7-D0DC-4C6D-9894-52539240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ED9B3-C2BC-49C4-8888-EE4D54C9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8D00-B045-48DC-B94E-078B9A9C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4B5-A8A9-4C86-8EA9-6D3FCEA1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B911-ED1F-487F-BC73-0A8652CC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DF9D8-176C-4CA6-B943-3A648B10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CCCA-9B33-45A3-832F-FCC028AA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1CD3B-CF4D-46C1-B399-A73D859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9044-AD56-4AD2-B938-267FF467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D5600-0109-4D15-9526-ECCE138C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32EBE-1D21-4680-A574-6CA21202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62DA3-DEB3-4697-BC0A-1FF69F1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82C42-9D9E-41C8-824E-238B4D81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C99FC-F34B-4AD9-B59B-96AFF99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994-8458-4F00-B346-6A1D8AE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00234-E9F4-4D6F-A819-F3BE3426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AD7C-E006-448B-A4AD-A585BC13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DD41-96D3-48D8-B754-BBB84C69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4FB18-7966-4B6F-9A3A-2458CB0A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FB6A-B396-495E-84AE-F5F04920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3722-FEE8-4EDB-8895-B0DA4F1A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520D2-A3E6-487C-B72A-83C9C312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F4A2C-E370-42B0-B50F-21A6070B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338DA-FDBC-4381-86F1-39EFA5FD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215F9-01D7-4B62-85C4-8152096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51D-D6BA-4002-A959-115EFE0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46B60-AEBF-46B5-9742-BA462915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D1412-3E7B-4880-949D-B81E8F68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A1D9A-AD0C-49E3-ADA6-6313901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56F6-7793-41CC-9275-7A3071C9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A605-1194-4AAD-9899-8FDFA923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4D913-F3CB-436F-AF3C-577FC612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8D47F-BA62-45E8-A8A7-256FFF13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7E116-FB5C-49A3-8428-1149226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E682-0C47-4A5D-B8F1-4CDC8EF9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69FB4-0F74-4878-AD25-BA06E2BE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60A-826C-40CA-B37E-D0C08E9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34CFB-0C27-4C24-A720-DD822754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F8E1-D20F-4A56-9554-5CD6B7C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E36A0-D2D8-44B7-8F1B-518FA521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F0E2-C4AF-4ACA-92E0-7E89ACF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C983-2B45-4922-AF72-FD8160F1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54BF9-9FD0-4E17-89AD-2943E305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C71CE-1E3B-4073-B4B3-BF62A989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DDE50-0541-4387-8118-689C9286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42EF2-2097-4063-B0C3-996016DD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20E83-F43B-43EE-9C0E-D8BC3994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6470-65DC-43EF-908F-ED299E0BC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B72-7A8A-452F-B30B-0309FCD4EE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877E-4167-4B6D-9297-A278F1A074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CA02-8194-4FFA-A4FB-5C1B458FDD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D33-FE3E-4580-A809-8672183926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3DBE-08A6-4A70-8FB8-797F9E7682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B751-1CD9-43D2-9B96-93EB86668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D045-0889-44A2-9389-C68FB368F1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7EB-3D97-4DB6-A64B-95E99152C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3508-DC98-4526-A7AE-CD371CD4B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38EE-560F-481A-934B-9953C7BDE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A505-AE8B-4FD7-AA92-297E308CBD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6ED3-C2E8-4284-A9B9-0F75461988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9B34-00DD-4D14-89D2-391C4A74D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825B-93F6-40D4-9858-43DF8DF9E5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05D-535F-4C2F-B929-F94DB7A20A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8D7B-1EC9-49B9-8078-28B31C40BA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3914-698D-4D4B-A686-76531399E5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540E-C565-49CE-BCBD-B74B9A2D6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A70F-A80E-4FA4-B92C-CEE4EF752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AD6-DBBF-4F51-B941-E9995E07D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79F5-ECF0-4971-B42D-5D80173A94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7BE5-4B39-4E83-87C0-4168EC4FD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65AF-F82E-48C3-A241-45F01D416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A7B-1EB0-4445-9AAA-FB817B65F0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0F0-E939-47FF-8562-05673B0EA5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6CD1-8935-4453-B53A-8A2D1CA0B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F7A8-60A1-430B-8890-5827A5D63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534A-0104-4205-B8B8-8C1DB9BE4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07FB-826B-41C1-AE07-422CE7109E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79E9-D863-4D2A-B596-D34EF1C30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559A-2122-48FE-A653-BFDEC0E54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65D-4CCC-4582-AE9E-50EF1A2DE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A25E-7047-420B-BCBE-B33708DA6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B02F-BBC4-4E6B-A759-BD5FBAFBBC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D131-72D1-45C3-A95F-F0E549DFE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0EF5-BE9B-4B06-B151-06846B070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AE7F-9326-41F6-A101-2B0A5A0B5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9E5-0827-4EE3-B04E-18325744D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0EC1-83CF-4360-A95F-9239DE8A54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818A-A8CA-43AE-9C1E-4AED75375C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D866-A188-4078-B730-39123C9DF1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F20F-5369-4634-BE9D-4AC3D890B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ACD2-7E29-4A97-BBC8-6D7333B5D2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49C5-C85D-40A8-8247-6D4212CC89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C0D-327F-491E-B9C7-4BA0EF8DE0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41D0-8BAE-458A-9D7B-E039A35FF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C877-ED79-4874-8A70-040EE4E60C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97FD-16B7-485D-AA42-1FC6C7A460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3BF2-88D9-4A25-BAD2-1E35FCE272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314440" y="3052800"/>
            <a:ext cx="45151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79873" descr=""/>
          <p:cNvPicPr/>
          <p:nvPr/>
        </p:nvPicPr>
        <p:blipFill>
          <a:blip r:embed="rId1"/>
          <a:stretch/>
        </p:blipFill>
        <p:spPr>
          <a:xfrm>
            <a:off x="495360" y="2023920"/>
            <a:ext cx="8153280" cy="2810160"/>
          </a:xfrm>
          <a:prstGeom prst="rect">
            <a:avLst/>
          </a:prstGeom>
          <a:ln w="0">
            <a:noFill/>
          </a:ln>
        </p:spPr>
      </p:pic>
      <p:sp>
        <p:nvSpPr>
          <p:cNvPr id="1482" name="矩形 79874"/>
          <p:cNvSpPr/>
          <p:nvPr/>
        </p:nvSpPr>
        <p:spPr>
          <a:xfrm>
            <a:off x="2019240" y="4305240"/>
            <a:ext cx="4478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79875"/>
          <p:cNvSpPr/>
          <p:nvPr/>
        </p:nvSpPr>
        <p:spPr>
          <a:xfrm>
            <a:off x="5446800" y="4354560"/>
            <a:ext cx="744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78849" descr=""/>
          <p:cNvPicPr/>
          <p:nvPr/>
        </p:nvPicPr>
        <p:blipFill>
          <a:blip r:embed="rId1"/>
          <a:stretch/>
        </p:blipFill>
        <p:spPr>
          <a:xfrm>
            <a:off x="533520" y="857160"/>
            <a:ext cx="8076960" cy="5143680"/>
          </a:xfrm>
          <a:prstGeom prst="rect">
            <a:avLst/>
          </a:prstGeom>
          <a:ln w="0">
            <a:noFill/>
          </a:ln>
        </p:spPr>
      </p:pic>
      <p:sp>
        <p:nvSpPr>
          <p:cNvPr id="1485" name="矩形 78850"/>
          <p:cNvSpPr/>
          <p:nvPr/>
        </p:nvSpPr>
        <p:spPr>
          <a:xfrm>
            <a:off x="6948360" y="1390680"/>
            <a:ext cx="981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78851"/>
          <p:cNvSpPr/>
          <p:nvPr/>
        </p:nvSpPr>
        <p:spPr>
          <a:xfrm>
            <a:off x="1403280" y="3068640"/>
            <a:ext cx="1871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77825" descr=""/>
          <p:cNvPicPr/>
          <p:nvPr/>
        </p:nvPicPr>
        <p:blipFill>
          <a:blip r:embed="rId1"/>
          <a:stretch/>
        </p:blipFill>
        <p:spPr>
          <a:xfrm>
            <a:off x="452520" y="1176480"/>
            <a:ext cx="8238960" cy="4505040"/>
          </a:xfrm>
          <a:prstGeom prst="rect">
            <a:avLst/>
          </a:prstGeom>
          <a:ln w="0">
            <a:noFill/>
          </a:ln>
        </p:spPr>
      </p:pic>
      <p:sp>
        <p:nvSpPr>
          <p:cNvPr id="1488" name="矩形 77826"/>
          <p:cNvSpPr/>
          <p:nvPr/>
        </p:nvSpPr>
        <p:spPr>
          <a:xfrm>
            <a:off x="4500720" y="3451320"/>
            <a:ext cx="154116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77827"/>
          <p:cNvSpPr/>
          <p:nvPr/>
        </p:nvSpPr>
        <p:spPr>
          <a:xfrm>
            <a:off x="7745400" y="3429000"/>
            <a:ext cx="5144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77828"/>
          <p:cNvSpPr/>
          <p:nvPr/>
        </p:nvSpPr>
        <p:spPr>
          <a:xfrm>
            <a:off x="2771640" y="4608360"/>
            <a:ext cx="1255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77829"/>
          <p:cNvSpPr/>
          <p:nvPr/>
        </p:nvSpPr>
        <p:spPr>
          <a:xfrm>
            <a:off x="6012000" y="4575240"/>
            <a:ext cx="447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76801" descr=""/>
          <p:cNvPicPr/>
          <p:nvPr/>
        </p:nvPicPr>
        <p:blipFill>
          <a:blip r:embed="rId1"/>
          <a:stretch/>
        </p:blipFill>
        <p:spPr>
          <a:xfrm>
            <a:off x="528480" y="681120"/>
            <a:ext cx="8087040" cy="5495760"/>
          </a:xfrm>
          <a:prstGeom prst="rect">
            <a:avLst/>
          </a:prstGeom>
          <a:ln w="0">
            <a:noFill/>
          </a:ln>
        </p:spPr>
      </p:pic>
      <p:sp>
        <p:nvSpPr>
          <p:cNvPr id="1493" name="矩形 76802"/>
          <p:cNvSpPr/>
          <p:nvPr/>
        </p:nvSpPr>
        <p:spPr>
          <a:xfrm>
            <a:off x="2124000" y="3500280"/>
            <a:ext cx="12319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76803"/>
          <p:cNvSpPr/>
          <p:nvPr/>
        </p:nvSpPr>
        <p:spPr>
          <a:xfrm>
            <a:off x="7308720" y="3500280"/>
            <a:ext cx="12319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76804"/>
          <p:cNvSpPr/>
          <p:nvPr/>
        </p:nvSpPr>
        <p:spPr>
          <a:xfrm>
            <a:off x="1116000" y="4076640"/>
            <a:ext cx="495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76805"/>
          <p:cNvSpPr/>
          <p:nvPr/>
        </p:nvSpPr>
        <p:spPr>
          <a:xfrm>
            <a:off x="3587760" y="4641840"/>
            <a:ext cx="19321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76806"/>
          <p:cNvSpPr/>
          <p:nvPr/>
        </p:nvSpPr>
        <p:spPr>
          <a:xfrm>
            <a:off x="7596360" y="4668840"/>
            <a:ext cx="9572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76807"/>
          <p:cNvSpPr/>
          <p:nvPr/>
        </p:nvSpPr>
        <p:spPr>
          <a:xfrm>
            <a:off x="1187280" y="5229360"/>
            <a:ext cx="117000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89089" descr=""/>
          <p:cNvPicPr/>
          <p:nvPr/>
        </p:nvPicPr>
        <p:blipFill>
          <a:blip r:embed="rId1"/>
          <a:stretch/>
        </p:blipFill>
        <p:spPr>
          <a:xfrm>
            <a:off x="461880" y="1405080"/>
            <a:ext cx="8220240" cy="4047840"/>
          </a:xfrm>
          <a:prstGeom prst="rect">
            <a:avLst/>
          </a:prstGeom>
          <a:ln w="0">
            <a:noFill/>
          </a:ln>
        </p:spPr>
      </p:pic>
      <p:sp>
        <p:nvSpPr>
          <p:cNvPr id="1500" name="矩形 89090"/>
          <p:cNvSpPr/>
          <p:nvPr/>
        </p:nvSpPr>
        <p:spPr>
          <a:xfrm>
            <a:off x="3132000" y="2133720"/>
            <a:ext cx="9352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89091"/>
          <p:cNvSpPr/>
          <p:nvPr/>
        </p:nvSpPr>
        <p:spPr>
          <a:xfrm>
            <a:off x="2112840" y="3235320"/>
            <a:ext cx="12798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89092"/>
          <p:cNvSpPr/>
          <p:nvPr/>
        </p:nvSpPr>
        <p:spPr>
          <a:xfrm>
            <a:off x="6300720" y="4365720"/>
            <a:ext cx="9352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90113" descr=""/>
          <p:cNvPicPr/>
          <p:nvPr/>
        </p:nvPicPr>
        <p:blipFill>
          <a:blip r:embed="rId1"/>
          <a:stretch/>
        </p:blipFill>
        <p:spPr>
          <a:xfrm>
            <a:off x="428760" y="1442880"/>
            <a:ext cx="8286480" cy="3972240"/>
          </a:xfrm>
          <a:prstGeom prst="rect">
            <a:avLst/>
          </a:prstGeom>
          <a:ln w="0">
            <a:noFill/>
          </a:ln>
        </p:spPr>
      </p:pic>
      <p:sp>
        <p:nvSpPr>
          <p:cNvPr id="1504" name="矩形 90114"/>
          <p:cNvSpPr/>
          <p:nvPr/>
        </p:nvSpPr>
        <p:spPr>
          <a:xfrm>
            <a:off x="5796000" y="3789360"/>
            <a:ext cx="1008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90115"/>
          <p:cNvSpPr/>
          <p:nvPr/>
        </p:nvSpPr>
        <p:spPr>
          <a:xfrm>
            <a:off x="7667640" y="3789360"/>
            <a:ext cx="4478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90116"/>
          <p:cNvSpPr/>
          <p:nvPr/>
        </p:nvSpPr>
        <p:spPr>
          <a:xfrm>
            <a:off x="7380360" y="4365720"/>
            <a:ext cx="7207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91137" descr=""/>
          <p:cNvPicPr/>
          <p:nvPr/>
        </p:nvPicPr>
        <p:blipFill>
          <a:blip r:embed="rId1"/>
          <a:stretch/>
        </p:blipFill>
        <p:spPr>
          <a:xfrm>
            <a:off x="428760" y="771480"/>
            <a:ext cx="8286480" cy="5315040"/>
          </a:xfrm>
          <a:prstGeom prst="rect">
            <a:avLst/>
          </a:prstGeom>
          <a:ln w="0">
            <a:noFill/>
          </a:ln>
        </p:spPr>
      </p:pic>
      <p:sp>
        <p:nvSpPr>
          <p:cNvPr id="1508" name="矩形 91138"/>
          <p:cNvSpPr/>
          <p:nvPr/>
        </p:nvSpPr>
        <p:spPr>
          <a:xfrm>
            <a:off x="3851280" y="4365720"/>
            <a:ext cx="120816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91139"/>
          <p:cNvSpPr/>
          <p:nvPr/>
        </p:nvSpPr>
        <p:spPr>
          <a:xfrm>
            <a:off x="1763640" y="4919760"/>
            <a:ext cx="44784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91140"/>
          <p:cNvSpPr/>
          <p:nvPr/>
        </p:nvSpPr>
        <p:spPr>
          <a:xfrm>
            <a:off x="4489560" y="5494320"/>
            <a:ext cx="12078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933640" cy="74304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88066" descr=""/>
          <p:cNvPicPr/>
          <p:nvPr/>
        </p:nvPicPr>
        <p:blipFill>
          <a:blip r:embed="rId2"/>
          <a:stretch/>
        </p:blipFill>
        <p:spPr>
          <a:xfrm>
            <a:off x="366840" y="2004840"/>
            <a:ext cx="8410320" cy="284832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7"/>
          <p:cNvSpPr/>
          <p:nvPr/>
        </p:nvSpPr>
        <p:spPr>
          <a:xfrm>
            <a:off x="3132000" y="1989000"/>
            <a:ext cx="9352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8"/>
          <p:cNvSpPr/>
          <p:nvPr/>
        </p:nvSpPr>
        <p:spPr>
          <a:xfrm>
            <a:off x="4716360" y="1989000"/>
            <a:ext cx="649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70"/>
          <p:cNvSpPr/>
          <p:nvPr/>
        </p:nvSpPr>
        <p:spPr>
          <a:xfrm>
            <a:off x="5867280" y="1989000"/>
            <a:ext cx="649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1"/>
          <p:cNvSpPr/>
          <p:nvPr/>
        </p:nvSpPr>
        <p:spPr>
          <a:xfrm>
            <a:off x="7093080" y="1989000"/>
            <a:ext cx="363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2"/>
          <p:cNvSpPr/>
          <p:nvPr/>
        </p:nvSpPr>
        <p:spPr>
          <a:xfrm>
            <a:off x="3565440" y="2349360"/>
            <a:ext cx="9352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3"/>
          <p:cNvSpPr/>
          <p:nvPr/>
        </p:nvSpPr>
        <p:spPr>
          <a:xfrm>
            <a:off x="5149800" y="2349360"/>
            <a:ext cx="649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4"/>
          <p:cNvSpPr/>
          <p:nvPr/>
        </p:nvSpPr>
        <p:spPr>
          <a:xfrm>
            <a:off x="6300720" y="2349360"/>
            <a:ext cx="649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5"/>
          <p:cNvSpPr/>
          <p:nvPr/>
        </p:nvSpPr>
        <p:spPr>
          <a:xfrm>
            <a:off x="7526160" y="2349360"/>
            <a:ext cx="3636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6"/>
          <p:cNvSpPr/>
          <p:nvPr/>
        </p:nvSpPr>
        <p:spPr>
          <a:xfrm>
            <a:off x="2620800" y="2708280"/>
            <a:ext cx="935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7"/>
          <p:cNvSpPr/>
          <p:nvPr/>
        </p:nvSpPr>
        <p:spPr>
          <a:xfrm>
            <a:off x="5002200" y="2698920"/>
            <a:ext cx="649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8"/>
          <p:cNvSpPr/>
          <p:nvPr/>
        </p:nvSpPr>
        <p:spPr>
          <a:xfrm>
            <a:off x="6140520" y="2693880"/>
            <a:ext cx="64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8079"/>
          <p:cNvSpPr/>
          <p:nvPr/>
        </p:nvSpPr>
        <p:spPr>
          <a:xfrm>
            <a:off x="7451640" y="2708280"/>
            <a:ext cx="363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8080"/>
          <p:cNvSpPr/>
          <p:nvPr/>
        </p:nvSpPr>
        <p:spPr>
          <a:xfrm>
            <a:off x="2700360" y="3068640"/>
            <a:ext cx="649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8081"/>
          <p:cNvSpPr/>
          <p:nvPr/>
        </p:nvSpPr>
        <p:spPr>
          <a:xfrm>
            <a:off x="4211640" y="3419640"/>
            <a:ext cx="363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8082"/>
          <p:cNvSpPr/>
          <p:nvPr/>
        </p:nvSpPr>
        <p:spPr>
          <a:xfrm>
            <a:off x="1547640" y="3772080"/>
            <a:ext cx="363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8083"/>
          <p:cNvSpPr/>
          <p:nvPr/>
        </p:nvSpPr>
        <p:spPr>
          <a:xfrm>
            <a:off x="5651640" y="4149720"/>
            <a:ext cx="64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8084"/>
          <p:cNvSpPr/>
          <p:nvPr/>
        </p:nvSpPr>
        <p:spPr>
          <a:xfrm>
            <a:off x="2771640" y="4508640"/>
            <a:ext cx="363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87041" descr=""/>
          <p:cNvPicPr/>
          <p:nvPr/>
        </p:nvPicPr>
        <p:blipFill>
          <a:blip r:embed="rId1"/>
          <a:stretch/>
        </p:blipFill>
        <p:spPr>
          <a:xfrm>
            <a:off x="347760" y="766800"/>
            <a:ext cx="8448480" cy="53244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87042"/>
          <p:cNvSpPr/>
          <p:nvPr/>
        </p:nvSpPr>
        <p:spPr>
          <a:xfrm>
            <a:off x="6227640" y="1916280"/>
            <a:ext cx="993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87043"/>
          <p:cNvSpPr/>
          <p:nvPr/>
        </p:nvSpPr>
        <p:spPr>
          <a:xfrm>
            <a:off x="900000" y="2637000"/>
            <a:ext cx="542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87044"/>
          <p:cNvSpPr/>
          <p:nvPr/>
        </p:nvSpPr>
        <p:spPr>
          <a:xfrm>
            <a:off x="5292720" y="2637000"/>
            <a:ext cx="542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86017" descr=""/>
          <p:cNvPicPr/>
          <p:nvPr/>
        </p:nvPicPr>
        <p:blipFill>
          <a:blip r:embed="rId1"/>
          <a:stretch/>
        </p:blipFill>
        <p:spPr>
          <a:xfrm>
            <a:off x="343080" y="1590840"/>
            <a:ext cx="8458200" cy="3676320"/>
          </a:xfrm>
          <a:prstGeom prst="rect">
            <a:avLst/>
          </a:prstGeom>
          <a:ln w="0">
            <a:noFill/>
          </a:ln>
        </p:spPr>
      </p:pic>
      <p:sp>
        <p:nvSpPr>
          <p:cNvPr id="1457" name="矩形 86018"/>
          <p:cNvSpPr/>
          <p:nvPr/>
        </p:nvSpPr>
        <p:spPr>
          <a:xfrm>
            <a:off x="324000" y="4869000"/>
            <a:ext cx="2952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86019"/>
          <p:cNvSpPr/>
          <p:nvPr/>
        </p:nvSpPr>
        <p:spPr>
          <a:xfrm>
            <a:off x="6877080" y="1617840"/>
            <a:ext cx="5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86020"/>
          <p:cNvSpPr/>
          <p:nvPr/>
        </p:nvSpPr>
        <p:spPr>
          <a:xfrm>
            <a:off x="3276720" y="1989000"/>
            <a:ext cx="5410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86021"/>
          <p:cNvSpPr/>
          <p:nvPr/>
        </p:nvSpPr>
        <p:spPr>
          <a:xfrm>
            <a:off x="8101080" y="1989000"/>
            <a:ext cx="3585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86022"/>
          <p:cNvSpPr/>
          <p:nvPr/>
        </p:nvSpPr>
        <p:spPr>
          <a:xfrm>
            <a:off x="7020000" y="2708280"/>
            <a:ext cx="358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86023"/>
          <p:cNvSpPr/>
          <p:nvPr/>
        </p:nvSpPr>
        <p:spPr>
          <a:xfrm>
            <a:off x="5796000" y="3789360"/>
            <a:ext cx="358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86024"/>
          <p:cNvSpPr/>
          <p:nvPr/>
        </p:nvSpPr>
        <p:spPr>
          <a:xfrm>
            <a:off x="3564000" y="4149720"/>
            <a:ext cx="644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86025"/>
          <p:cNvSpPr/>
          <p:nvPr/>
        </p:nvSpPr>
        <p:spPr>
          <a:xfrm>
            <a:off x="1719360" y="4492800"/>
            <a:ext cx="644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86026"/>
          <p:cNvSpPr/>
          <p:nvPr/>
        </p:nvSpPr>
        <p:spPr>
          <a:xfrm>
            <a:off x="2771640" y="4508640"/>
            <a:ext cx="644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8499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904840" cy="41904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84994" descr=""/>
          <p:cNvPicPr/>
          <p:nvPr/>
        </p:nvPicPr>
        <p:blipFill>
          <a:blip r:embed="rId2"/>
          <a:stretch/>
        </p:blipFill>
        <p:spPr>
          <a:xfrm>
            <a:off x="338040" y="1785960"/>
            <a:ext cx="8467920" cy="3286080"/>
          </a:xfrm>
          <a:prstGeom prst="rect">
            <a:avLst/>
          </a:prstGeom>
          <a:ln w="0">
            <a:noFill/>
          </a:ln>
        </p:spPr>
      </p:pic>
      <p:sp>
        <p:nvSpPr>
          <p:cNvPr id="1468" name="矩形 84995"/>
          <p:cNvSpPr/>
          <p:nvPr/>
        </p:nvSpPr>
        <p:spPr>
          <a:xfrm>
            <a:off x="3662280" y="3603600"/>
            <a:ext cx="363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84996"/>
          <p:cNvSpPr/>
          <p:nvPr/>
        </p:nvSpPr>
        <p:spPr>
          <a:xfrm>
            <a:off x="8388360" y="3573360"/>
            <a:ext cx="363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84997"/>
          <p:cNvSpPr/>
          <p:nvPr/>
        </p:nvSpPr>
        <p:spPr>
          <a:xfrm>
            <a:off x="1042920" y="3933720"/>
            <a:ext cx="363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84998"/>
          <p:cNvSpPr/>
          <p:nvPr/>
        </p:nvSpPr>
        <p:spPr>
          <a:xfrm>
            <a:off x="3708360" y="4292640"/>
            <a:ext cx="612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84999"/>
          <p:cNvSpPr/>
          <p:nvPr/>
        </p:nvSpPr>
        <p:spPr>
          <a:xfrm>
            <a:off x="1258920" y="4653000"/>
            <a:ext cx="612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83969" descr=""/>
          <p:cNvPicPr/>
          <p:nvPr/>
        </p:nvPicPr>
        <p:blipFill>
          <a:blip r:embed="rId1"/>
          <a:stretch/>
        </p:blipFill>
        <p:spPr>
          <a:xfrm>
            <a:off x="466560" y="1195560"/>
            <a:ext cx="8210880" cy="4466880"/>
          </a:xfrm>
          <a:prstGeom prst="rect">
            <a:avLst/>
          </a:prstGeom>
          <a:ln w="0">
            <a:noFill/>
          </a:ln>
        </p:spPr>
      </p:pic>
      <p:sp>
        <p:nvSpPr>
          <p:cNvPr id="1474" name="矩形 83970"/>
          <p:cNvSpPr/>
          <p:nvPr/>
        </p:nvSpPr>
        <p:spPr>
          <a:xfrm>
            <a:off x="4383000" y="4127400"/>
            <a:ext cx="4478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82945" descr=""/>
          <p:cNvPicPr/>
          <p:nvPr/>
        </p:nvPicPr>
        <p:blipFill>
          <a:blip r:embed="rId1"/>
          <a:stretch/>
        </p:blipFill>
        <p:spPr>
          <a:xfrm>
            <a:off x="504720" y="1914480"/>
            <a:ext cx="8134560" cy="3029040"/>
          </a:xfrm>
          <a:prstGeom prst="rect">
            <a:avLst/>
          </a:prstGeom>
          <a:ln w="0">
            <a:noFill/>
          </a:ln>
        </p:spPr>
      </p:pic>
      <p:sp>
        <p:nvSpPr>
          <p:cNvPr id="1476" name="矩形 82946"/>
          <p:cNvSpPr/>
          <p:nvPr/>
        </p:nvSpPr>
        <p:spPr>
          <a:xfrm>
            <a:off x="7812000" y="2492280"/>
            <a:ext cx="4478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81921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77320" cy="5610240"/>
          </a:xfrm>
          <a:prstGeom prst="rect">
            <a:avLst/>
          </a:prstGeom>
          <a:ln w="0">
            <a:noFill/>
          </a:ln>
        </p:spPr>
      </p:pic>
      <p:sp>
        <p:nvSpPr>
          <p:cNvPr id="1478" name="矩形 81922"/>
          <p:cNvSpPr/>
          <p:nvPr/>
        </p:nvSpPr>
        <p:spPr>
          <a:xfrm>
            <a:off x="7740720" y="1844640"/>
            <a:ext cx="447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80897" descr=""/>
          <p:cNvPicPr/>
          <p:nvPr/>
        </p:nvPicPr>
        <p:blipFill>
          <a:blip r:embed="rId1"/>
          <a:stretch/>
        </p:blipFill>
        <p:spPr>
          <a:xfrm>
            <a:off x="509760" y="2081160"/>
            <a:ext cx="8124480" cy="2695680"/>
          </a:xfrm>
          <a:prstGeom prst="rect">
            <a:avLst/>
          </a:prstGeom>
          <a:ln w="0">
            <a:noFill/>
          </a:ln>
        </p:spPr>
      </p:pic>
      <p:sp>
        <p:nvSpPr>
          <p:cNvPr id="1480" name="矩形 80898"/>
          <p:cNvSpPr/>
          <p:nvPr/>
        </p:nvSpPr>
        <p:spPr>
          <a:xfrm>
            <a:off x="7812000" y="3213000"/>
            <a:ext cx="4478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8:50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